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2139-B80A-4B4A-AC7C-CBCE9C2DC3A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v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ucleu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rot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pro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ctr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met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lle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ll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pou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c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neutraliz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neutr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busti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bust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dens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d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lu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olu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l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tom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olecul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56A29-9D64-49D7-9EFA-E4311B835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D69E3-CFB9-4832-9428-87A5D385F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E7190-5A4C-4C48-BA0D-75F134DEA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29A1A-B754-4482-B6BE-39D53A339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DFD31-BDC4-4441-B675-D49C3FA0B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FB925-1A46-4907-A426-FE719026B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B4CFA-508A-4097-9B92-836A5018B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B2233-F5B3-4700-9C9A-8F2CE1BCA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7D2B3-8271-47C1-AB91-D6FCE9D3E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10603-DDF8-49A7-B36B-3EFE116D9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24242-4EB9-4980-A066-BEC6378D1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ECF6-70D4-440D-9E77-63430E621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D9BB-B5F7-4892-921C-1C3B2F4E54CB}"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olids, liquids and g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wo different ways that matter can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hysical or chemical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react chemical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activ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mallest unit of a pure substance that still has the properties of that subs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enter of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nucle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very atom’s nucleus contains at least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rot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negatively charged subatomic partic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ctr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umber of protons in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ure substance that is made of only one kind of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 element that conducts heat and electricity we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et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roperty of metal that allows it to be bent and rolled into shee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llea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atoms of the same element have this in comm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ame number of prot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thod of organizing elements by their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eriodic 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ubstance formed from the atoms of two or more ele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mp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ompound the reacts easily with other substances and turns blue litmus paper 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c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rength of acids and bases are measured by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Frie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atom</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cids and </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mpound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nd bas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Oh, My!</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t’s a Gas!</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is it?</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lementary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dear</a:t>
            </a:r>
            <a:endParaRPr b="1" lang="en-US" sz="2400" spc="-1" strike="noStrike">
              <a:solidFill>
                <a:srgbClr val="ff9933"/>
              </a:solidFill>
              <a:latin typeface="Times New Roman"/>
            </a:endParaRPr>
          </a:p>
        </p:txBody>
      </p:sp>
      <p:pic>
        <p:nvPicPr>
          <p:cNvPr id="86" name="boar423.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hat’s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atter?</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H Sc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qual strength acids and bases do this to each o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eutraliz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ee uses of acids and bases in manufactur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foods, medicines, fertilizers, explosives or dy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emical property of being able to bur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busti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anges a substance from gas to a liqu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dens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mount of matter in an obje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is made up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mperature of a liquid at which it changes to a g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oiling po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be dissolv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lu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of matter in which the particles are closest toge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ol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atom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oms bond together to form these larger uni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molecul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exists in these 3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5:53:43Z</dcterms:modified>
  <cp:revision>32</cp:revision>
  <dc:subject/>
  <dc:title>No Slide Title</dc:title>
</cp:coreProperties>
</file>